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1892-F110-4A6C-A4D8-9C892602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79E-8104-4443-A881-3CAAEDF8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20109-59A6-4FFC-BC65-8606BF20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41B1C-D18F-49D8-A03D-BA0F416E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67D2A-7162-4998-BF68-D1454A3D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49E41-0E14-4815-90DB-70146CDB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A6700-1F24-494B-A779-3BAA1D76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55666-7BCA-4DCF-90D5-939BF6C7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FD686-B7F7-46CA-839F-AE401799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73C6C-FFDA-4F87-AE88-898699B2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0D97A-D201-4457-82BB-F90648C0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BF4F0-DB36-4588-9151-AED11E0A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925-5C14-4EB0-B8E6-7B6EA17E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1D6E0-C1F9-4247-B2A4-B4763E81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44799-E9A7-4948-B26F-9E643834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4F319-06F3-4BBF-B4D8-16BD89E6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4B857-A027-4F98-AD84-10818F48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4F9B4-A119-4E2D-9B7D-F3118DFB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0F10D-D487-49EC-A9C7-1325AEBC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88DB0-C983-4980-AB6C-332714F3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1B4C0-FAA1-4DD5-94F6-3A478BB9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EB1D3-3507-4348-AD8F-04008651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BDEE5-8ADE-412E-9B0A-A3F4D7DC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61C-6E30-4506-BEB9-89180CC7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2ABBB-209D-4F19-A86C-9C2C45BD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CAA8D-86C5-4BA8-AB10-005F946B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0679C-3B3F-4EEC-8A37-E3C43B33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45EEE-CDFE-4BE7-9460-9D929FA1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2D5EA-16AF-439A-8BA3-5349A370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A23E6-3137-489C-A93A-43C5B2B3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40E9B-4D56-43F8-B709-DFB45544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EDB38-4C6A-43AB-AE2D-F3705AFB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F1FEF-1B58-4EEC-8D93-BD085D1C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997F3-9F5C-4ED5-A8AA-407D1A7D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A1577-A8A7-405D-A3D9-5CD95C17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B3839-E666-421E-A978-EA245F40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3360F-3DFE-47C1-8FA1-F786878D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2173C-F976-4129-930D-3644094B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0F829-6319-4BD0-AED4-0CB12B92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31F2D-F030-407A-A6BE-9369004B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A2E77-F29C-4E17-A91B-A3EF2E99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1973F-CF75-4A2E-8C80-BF482B69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DB0FC-C720-45C1-9B1E-4871F1CC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ADD99-00B5-4CCD-9F4E-FFF65BB3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8D811-376C-4A44-9EF5-90740304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08D10-64F9-4B02-874E-9B5030F3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A6F80-29FE-4227-B9EA-A2C0AFB2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7077A-9027-4709-9400-C3F6388B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215A5-07A8-47C7-8A42-169DD012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EE933-2E96-4E6A-9512-7B6B4A98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B536B-813E-4E25-96DC-F32642A6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6567D-5A06-488D-8CF3-174452E2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46902-A68E-4150-8F5F-DC27B965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AD133-C5A8-4202-A968-A3CAFCB4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1B263E-3A6F-461C-B739-05784B83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32CD48-7B70-4CD0-80A4-A85AA548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1B081-0CDE-4E08-9022-A5EA3F01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66462-EAE0-4224-9AA9-5B094654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4A457-CAFE-4ECE-BA83-B044CA8A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0697A-A596-487B-809C-4B5BB1E2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1736B1-0333-407F-95BB-337A9E6C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35D71D-B938-49C0-9618-332004EE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850799-A4B4-4649-875E-55783B71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906C1-09CA-41B1-8C0E-B6DB0DAF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DC3204-C87E-4A7D-B481-1420044C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8E8B96-2EB2-47EE-9EF4-83969F5D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2E98EB-8306-4F0D-A3F0-273A4C51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A0C3A-8412-452A-A193-4E6CFD9C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CA198-D794-4819-BE66-3ADC815D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C9C84-E196-4BF0-B0A1-E21B75B5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AC314-0CDF-4CD5-8215-619F8CEA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ECAC7-A91F-4B58-AC27-E872F0F3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C2FF23-EFFD-4E15-AD39-6665DE2F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F0A584-CD3F-48FC-92FB-E0CEA788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33F9A-CF37-4B35-8B14-1F6CCF08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787A8C-B168-4913-B859-828A8E09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4CCBD6-EAB4-4486-B176-FD0D8318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0070F7-94E8-4A18-BA60-74A5C794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A6275-36A8-4151-8EE3-2BE1B7AE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F8C107-EB03-4F9E-A55F-98D0D74A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5F0FBC-C993-4185-BF47-C1B4F02C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013B47-244D-4069-B9C3-2857CC8F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F2B9C5-025B-47C5-8267-DF74837F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8DA9E5-762D-426B-9BBA-10B73977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952C2C-AA8C-4909-84A5-6A27838B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9A0F89-93C2-4CEA-9205-63A0F45E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AFE0CC-B7EE-49D3-A653-A66B5F50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76B2D6-4F84-4DFD-B7A2-8F2AFA0E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915B3B-F3C7-44D5-84D1-6A0DFEAF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AF80A-4F6E-4941-B54E-AEB0B899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E5FA9E-8FA8-4CC6-BD11-035B3E97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4EC98E-5A83-4D6A-91AC-C74D7AB6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D08620-0339-466A-ACEB-8E2911E9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A90900-15EE-42B9-A949-330F96FE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66D6F3-9002-4DC8-9A1F-503FA9E4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2A830D-2D89-43A7-A8C9-C081A80F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0689B5-F674-48E2-8097-96C0FB1F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11CAEC-5D66-4F48-B0F0-D82B900A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EC345E-A942-4A93-9401-5FDDF382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C300E5-7437-4E90-97A3-21E0E105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AD072-A220-40F3-9701-DA473A5F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1686BA-4DC4-4943-B209-5DC06605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A90E4F-5A1E-40FE-8C8A-AC26A76A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4A56D5-363E-4A0D-A7FA-2BE21B94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B43CA5-A109-4125-9124-549C02F7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6FB917-63A6-4086-BCA6-DCDE83B2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ED51B6-EF2B-4DF1-85F0-7577B441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666A61-305B-4C76-A825-E490348F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A82306-E5A0-4DDD-B278-7E274C4A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F8B678-BD21-4A2A-A53B-74FEA529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540D23-2F05-47AB-B2FE-8802F50A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ABA-7310-4BF1-B12D-15691381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949D3-26BC-4885-B2EC-52FE0FE7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B52831-8B6E-4196-B0B7-444B110F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FCC734-4790-4932-A09B-465AE4D6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64AE55-EF8E-4993-A2B6-3A5A067C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1F3F01-CCA2-4579-9C94-A7E6E833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B956E8-12A4-48ED-A410-57DF46CE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9D9AA-18FC-4440-AC73-2A27291F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96956-576A-4B30-B0D7-5002687C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9B4D9-0466-46FD-85F1-DF00CC6A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2E534-7CE5-4756-8047-8DAF64C5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CE650-EC1E-445F-B280-C0E20D30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88FF8-DC89-4A63-9182-59660D51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DB4A8-3596-46FA-96B7-8B92DB5D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6BF2-4B5F-4D73-848D-7AC3A963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5BC19-7F24-4656-BA8B-9C5A97F3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369-30BA-4AE1-BA38-2246E943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3D4CD-3B23-4ADD-829D-22858D65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D4998-998C-4FAA-9F2A-29EA95A1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41409-0A23-4F27-A55B-7488B41B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78186-4815-408B-9D55-FC604A0C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C61BF-7EC2-462A-A979-E41A6DA6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EC5DE-D043-4FF9-994B-5DE9C90B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BD43A-F3AE-4E35-839C-93DF3F70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1E65D-E260-475A-8948-9917BDC3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A93E0-FC89-44AA-8244-5C45A8E9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D9931-2EA3-4033-9A69-EE5B9C70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736-22E7-4AF4-AFD1-6344639D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4A287-5C46-4D5D-A244-B476D67D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686FF-3862-439B-9A53-5B3C7819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6F567-F75E-457F-B675-78BA0CF0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01656-8F18-4371-87A1-065936C1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EA7A8-6BAF-45FC-B6D8-A5C903C0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4A2A1-6773-43FE-BE8C-87392D7E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15CB7-1AC1-44CD-B62F-DC714A3A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196C3-DE11-4191-812A-5AF3F356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CD2BB-4221-4EE3-9430-9A96AE8E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F3477-C759-4C31-B3DF-E50ED10C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BFAF-E59C-4393-AFC4-10C849ED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B0AED-5C0A-4487-B40D-005BAA58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F7FCC-964C-4B76-BF19-18479620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F3F73-57CA-4177-B7F8-9A97A9B9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EADE5-515C-414A-9C5A-D3A35246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7D347-64E7-427B-8553-45229171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F0C8A-5D06-4FB5-A5EB-822B72E0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944C4-993F-4F27-8A18-0549FA5B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9B1AE-D409-40BD-B1C9-288F5386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6A7E7-99FE-43A9-82BE-FD038C2C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6CDF5-D40B-4CB3-B9FC-DA870F3F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E4C-F9D7-4D87-BBC7-6B94CBD9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73AEC-DA0D-43C3-A140-9E0EBFA2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A39B5-CC03-41A4-9A51-E4093D79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ECA13-F9BB-46D1-A270-E4761C05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B6179-19A7-4F47-8DDF-01CC70C5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5FAC8-EF4B-4F33-93A1-5F712189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66B98-2BEA-4967-A6F6-EF8A75D2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54FA6-7479-4324-BDEA-F0A0A8F0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BC8ED-64E2-4EDB-BE54-54AD357D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98D60-45E3-4DA7-B802-EE3BC719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8F928-566D-4B4B-9164-F04150B7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183E-341C-4C9B-A06A-3BA75D48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09A26-45D8-449E-BAE7-8F1FE2ED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9ED28-2C4A-45FB-B734-2B98A1A5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AAFEA-3412-46D3-99FC-F6A9D308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BD64E-E817-492E-90CE-63672F32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A1380-6F0A-4563-B260-10AE37B9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AB52E-F1CF-43D5-8AFC-88D104FA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BA0C6-1E95-46CC-AC37-5955B65E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5CC97-4A0C-4913-8627-042D276F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5D9B7-0521-4BE8-8220-3BEEB979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FA738-C9F1-41D7-AB51-84543DBF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179-EF4C-4564-A906-CA7800D9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292FF-9F2E-4633-9EB1-F612C120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ACFA9-441D-4F63-9BAF-28021F7D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6DB52-EE2D-4DC3-BC1A-4FE4F3CE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A0FFC-CF6C-439C-B21A-5737E799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2009F-ED74-49A0-8678-50C0FEB4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FE575-77C4-4A17-8A45-79B7C606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845DA-D86D-48EE-BD86-EDEB898C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267CC-38C8-424B-A16A-7BDD5DC7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B7F53-57AB-4EE0-BEC4-BC67ACBD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FBC2C-695A-4D9B-8664-32B83E82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C304-6396-47D2-B40D-06B7D48D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BF72B-1DA8-40E3-A3D4-50C057F6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E2E61-2119-4496-BC70-9C0538A8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B227E-6FC8-498B-9700-4BF241D9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27924-B1B6-4C84-8EF6-67A354EF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64F84-E572-4AD8-8FD4-13E52673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72889-395A-404F-B109-30B93516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5067F-CC54-45DB-BA35-9871CEB0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933F4-A648-42F7-8083-6EBDAE69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70C7D-38A9-4173-A3C3-525C30F3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65058-BE92-427E-B387-C7A673B7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3D3A-6A0E-43C4-9756-D91EE3B8117D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DA07-3F8C-439B-9EA8-804B75ADB724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7B1A-8034-4E7F-BB74-A2F532DFCFEA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025D-0225-45C2-87F6-B7BAD390EC99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0DA5-FEA6-482A-9350-08B8B75B3685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BDA3-7414-4A98-A1F0-7711A914220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CE07-AF27-4FED-A00E-7B742D0D0D1D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ECD5-069F-4154-A316-47928AF57C54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7516-281F-426D-A74C-418FEC49B195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3C5F-508B-4C57-8758-9962CCEA57AB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8FF8-9E03-4422-870A-C90EE39DB2DE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B239-1613-463E-93F3-0908786BB16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C082-039B-42D3-9D98-D80D97EB8253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D301-C435-4B6A-BA73-ED6EAC6FC3F6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0C35-8D53-4B48-9B84-5EA4E7F3688B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3293-7999-442F-9EA0-99CA6619227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221E-F550-4280-BD63-62AD0D2BC2DA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7176-E907-4254-B7D4-DF4C4192F600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3972-0150-4814-8232-B3B1B834AFA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A3C2-F243-464D-83C0-2362DB25D83B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B1A0-A14C-4B77-9137-B11690AF5007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9F5C-4D62-4661-90C8-3D00BD0A945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8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8E93-77C1-445D-94B5-9F296E1E91C9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C70C-3479-4D2E-BC77-8AEC25635156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8959-6B05-427B-9643-7B8AAE37AB65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5EC0-2032-4E15-BA07-5EFD745168ED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9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traight Connector 10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E29E-8913-4018-BAE3-B4C2C2BB0B74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EC26-5985-4FD7-AB9A-BEBC757E5980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D722-2FFE-4B0B-A326-C20A83BFA8D6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3D73-0398-456C-ADAF-1929F34BDBF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E41C-7BEF-4090-9F53-1538DBDBC010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489F-9573-41A2-B5FD-A382BF9B180B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7B12-E8BC-4FF8-95BF-230C36DC9A83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19C1-DCCA-4D24-8EBC-87FDD9CF1C7E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First In, First Out Inventory (FIFO)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779040" y="1828440"/>
            <a:ext cx="7583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Using the price of merchandise purchased first to calculate the cost merchandise sold first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Title 3"/>
          <p:cNvSpPr/>
          <p:nvPr/>
        </p:nvSpPr>
        <p:spPr>
          <a:xfrm>
            <a:off x="874800" y="3200400"/>
            <a:ext cx="75834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Last In, First Out Inventory (LIFO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Content Placeholder 4"/>
          <p:cNvSpPr/>
          <p:nvPr/>
        </p:nvSpPr>
        <p:spPr>
          <a:xfrm>
            <a:off x="874800" y="4648320"/>
            <a:ext cx="7583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Using the price of merchandise purchased last to calculate the cost merchandise sold firs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FIRST-IN, FIRST-OUT INVENTORY COSTING METHOD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39" name="Picture 4" descr="D:\C21 PowerPoint\Multi_Journal\art for blue\Ch22\Ch22-02a.jpg"/>
          <p:cNvPicPr/>
          <p:nvPr/>
        </p:nvPicPr>
        <p:blipFill>
          <a:blip r:embed="rId1"/>
          <a:srcRect l="0" t="19320" r="0" b="53612"/>
          <a:stretch/>
        </p:blipFill>
        <p:spPr>
          <a:xfrm>
            <a:off x="457200" y="1706400"/>
            <a:ext cx="8001000" cy="2392560"/>
          </a:xfrm>
          <a:prstGeom prst="rect">
            <a:avLst/>
          </a:prstGeom>
          <a:ln w="0">
            <a:noFill/>
          </a:ln>
        </p:spPr>
      </p:pic>
      <p:sp>
        <p:nvSpPr>
          <p:cNvPr id="740" name="Oval 5"/>
          <p:cNvSpPr/>
          <p:nvPr/>
        </p:nvSpPr>
        <p:spPr>
          <a:xfrm>
            <a:off x="8305920" y="38401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6"/>
          <p:cNvSpPr/>
          <p:nvPr/>
        </p:nvSpPr>
        <p:spPr>
          <a:xfrm>
            <a:off x="6553080" y="37638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7"/>
          <p:cNvSpPr/>
          <p:nvPr/>
        </p:nvSpPr>
        <p:spPr>
          <a:xfrm>
            <a:off x="6781680" y="26971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8"/>
          <p:cNvSpPr/>
          <p:nvPr/>
        </p:nvSpPr>
        <p:spPr>
          <a:xfrm>
            <a:off x="8399520" y="31543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9"/>
          <p:cNvSpPr/>
          <p:nvPr/>
        </p:nvSpPr>
        <p:spPr>
          <a:xfrm>
            <a:off x="6400800" y="31543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0"/>
          <p:cNvSpPr/>
          <p:nvPr/>
        </p:nvSpPr>
        <p:spPr>
          <a:xfrm>
            <a:off x="514440" y="4943520"/>
            <a:ext cx="62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s Needed to Equal the Total Units on H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1"/>
          <p:cNvSpPr/>
          <p:nvPr/>
        </p:nvSpPr>
        <p:spPr>
          <a:xfrm>
            <a:off x="514440" y="4205160"/>
            <a:ext cx="35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Total Units on H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12"/>
          <p:cNvSpPr/>
          <p:nvPr/>
        </p:nvSpPr>
        <p:spPr>
          <a:xfrm>
            <a:off x="514440" y="5307120"/>
            <a:ext cx="39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 Price Times Fifo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3"/>
          <p:cNvSpPr/>
          <p:nvPr/>
        </p:nvSpPr>
        <p:spPr>
          <a:xfrm>
            <a:off x="514440" y="4570560"/>
            <a:ext cx="53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s from the Most Recent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4"/>
          <p:cNvSpPr/>
          <p:nvPr/>
        </p:nvSpPr>
        <p:spPr>
          <a:xfrm>
            <a:off x="514440" y="5668920"/>
            <a:ext cx="38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Fifo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5"/>
          <p:cNvSpPr/>
          <p:nvPr/>
        </p:nvSpPr>
        <p:spPr>
          <a:xfrm>
            <a:off x="7344360" y="67348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2-2, page 5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74440" y="45720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LAST-IN, FIRST-OUT INVENTORY COSTING METHOD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52" name="Picture 4" descr="D:\C21 PowerPoint\Multi_Journal\art for blue\Ch22\Ch22-02b.jpg"/>
          <p:cNvPicPr/>
          <p:nvPr/>
        </p:nvPicPr>
        <p:blipFill>
          <a:blip r:embed="rId1"/>
          <a:srcRect l="0" t="0" r="0" b="67964"/>
          <a:stretch/>
        </p:blipFill>
        <p:spPr>
          <a:xfrm>
            <a:off x="457200" y="1706400"/>
            <a:ext cx="8229600" cy="2347920"/>
          </a:xfrm>
          <a:prstGeom prst="rect">
            <a:avLst/>
          </a:prstGeom>
          <a:ln w="0">
            <a:noFill/>
          </a:ln>
        </p:spPr>
      </p:pic>
      <p:sp>
        <p:nvSpPr>
          <p:cNvPr id="753" name="Oval 5"/>
          <p:cNvSpPr/>
          <p:nvPr/>
        </p:nvSpPr>
        <p:spPr>
          <a:xfrm>
            <a:off x="8610480" y="2697120"/>
            <a:ext cx="30492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6"/>
          <p:cNvSpPr/>
          <p:nvPr/>
        </p:nvSpPr>
        <p:spPr>
          <a:xfrm>
            <a:off x="6934320" y="3722760"/>
            <a:ext cx="30456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7"/>
          <p:cNvSpPr/>
          <p:nvPr/>
        </p:nvSpPr>
        <p:spPr>
          <a:xfrm>
            <a:off x="7051680" y="2697120"/>
            <a:ext cx="30492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8"/>
          <p:cNvSpPr/>
          <p:nvPr/>
        </p:nvSpPr>
        <p:spPr>
          <a:xfrm>
            <a:off x="7139160" y="3060720"/>
            <a:ext cx="30456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9"/>
          <p:cNvSpPr/>
          <p:nvPr/>
        </p:nvSpPr>
        <p:spPr>
          <a:xfrm>
            <a:off x="6975360" y="2357280"/>
            <a:ext cx="30492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10"/>
          <p:cNvSpPr/>
          <p:nvPr/>
        </p:nvSpPr>
        <p:spPr>
          <a:xfrm>
            <a:off x="514440" y="494352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s from the Earliest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11"/>
          <p:cNvSpPr/>
          <p:nvPr/>
        </p:nvSpPr>
        <p:spPr>
          <a:xfrm>
            <a:off x="514440" y="4205160"/>
            <a:ext cx="62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Total Units on H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12"/>
          <p:cNvSpPr/>
          <p:nvPr/>
        </p:nvSpPr>
        <p:spPr>
          <a:xfrm>
            <a:off x="514440" y="530712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s Needed to Equal the Total Units on H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3"/>
          <p:cNvSpPr/>
          <p:nvPr/>
        </p:nvSpPr>
        <p:spPr>
          <a:xfrm>
            <a:off x="514440" y="457056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ginning Inventory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14"/>
          <p:cNvSpPr/>
          <p:nvPr/>
        </p:nvSpPr>
        <p:spPr>
          <a:xfrm>
            <a:off x="514440" y="5668920"/>
            <a:ext cx="74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 Price Times Lifo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15"/>
          <p:cNvSpPr/>
          <p:nvPr/>
        </p:nvSpPr>
        <p:spPr>
          <a:xfrm>
            <a:off x="8610480" y="372276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16"/>
          <p:cNvSpPr/>
          <p:nvPr/>
        </p:nvSpPr>
        <p:spPr>
          <a:xfrm>
            <a:off x="515880" y="6032520"/>
            <a:ext cx="741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Lifo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17"/>
          <p:cNvSpPr/>
          <p:nvPr/>
        </p:nvSpPr>
        <p:spPr>
          <a:xfrm>
            <a:off x="7344360" y="67348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2-2, page 5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WEIGHTED-AVERAGE INVENTORY COSTING METHOD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67" name="Picture 5" descr="D:\C21 PowerPoint\Multi_Journal\art for blue\Ch22\Ch22-02c.jpg"/>
          <p:cNvPicPr/>
          <p:nvPr/>
        </p:nvPicPr>
        <p:blipFill>
          <a:blip r:embed="rId1"/>
          <a:srcRect l="0" t="0" r="0" b="41002"/>
          <a:stretch/>
        </p:blipFill>
        <p:spPr>
          <a:xfrm>
            <a:off x="380880" y="1782720"/>
            <a:ext cx="6400800" cy="4594320"/>
          </a:xfrm>
          <a:prstGeom prst="rect">
            <a:avLst/>
          </a:prstGeom>
          <a:ln w="0">
            <a:noFill/>
          </a:ln>
        </p:spPr>
      </p:pic>
      <p:sp>
        <p:nvSpPr>
          <p:cNvPr id="768" name="Oval 8"/>
          <p:cNvSpPr/>
          <p:nvPr/>
        </p:nvSpPr>
        <p:spPr>
          <a:xfrm>
            <a:off x="5105520" y="38401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6858000" y="383868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of Ending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6858000" y="193500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Total Cost of Inventory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5"/>
          <p:cNvSpPr/>
          <p:nvPr/>
        </p:nvSpPr>
        <p:spPr>
          <a:xfrm>
            <a:off x="6858000" y="290844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ighted-Average Price per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9"/>
          <p:cNvSpPr/>
          <p:nvPr/>
        </p:nvSpPr>
        <p:spPr>
          <a:xfrm>
            <a:off x="6248520" y="56689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11"/>
          <p:cNvSpPr/>
          <p:nvPr/>
        </p:nvSpPr>
        <p:spPr>
          <a:xfrm>
            <a:off x="6019920" y="47545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4"/>
          <p:cNvSpPr/>
          <p:nvPr/>
        </p:nvSpPr>
        <p:spPr>
          <a:xfrm>
            <a:off x="7268400" y="681120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2-2, page 5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ost of Merchandise Sold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TextBox 2"/>
          <p:cNvSpPr/>
          <p:nvPr/>
        </p:nvSpPr>
        <p:spPr>
          <a:xfrm>
            <a:off x="685800" y="228600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Merchandise Avail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Box 3"/>
          <p:cNvSpPr/>
          <p:nvPr/>
        </p:nvSpPr>
        <p:spPr>
          <a:xfrm>
            <a:off x="2666880" y="2362320"/>
            <a:ext cx="53352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Box 4"/>
          <p:cNvSpPr/>
          <p:nvPr/>
        </p:nvSpPr>
        <p:spPr>
          <a:xfrm>
            <a:off x="320040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ory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FIFO, LIFO, Weighted Av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5"/>
          <p:cNvSpPr/>
          <p:nvPr/>
        </p:nvSpPr>
        <p:spPr>
          <a:xfrm>
            <a:off x="5794920" y="2475000"/>
            <a:ext cx="5464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Box 6"/>
          <p:cNvSpPr/>
          <p:nvPr/>
        </p:nvSpPr>
        <p:spPr>
          <a:xfrm>
            <a:off x="6585120" y="228600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Merchandise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OMPARISON OF INVENTORY METHODS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82" name="Picture 4" descr="D:\C21 PowerPoint\Multi_Journal\art for blue\Ch22\Ch22-02d.jpg"/>
          <p:cNvPicPr/>
          <p:nvPr/>
        </p:nvPicPr>
        <p:blipFill>
          <a:blip r:embed="rId1"/>
          <a:srcRect l="10613" t="14599" r="0" b="51221"/>
          <a:stretch/>
        </p:blipFill>
        <p:spPr>
          <a:xfrm>
            <a:off x="457200" y="1708200"/>
            <a:ext cx="8229600" cy="339732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2-2, page 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Box 4"/>
          <p:cNvSpPr/>
          <p:nvPr/>
        </p:nvSpPr>
        <p:spPr>
          <a:xfrm>
            <a:off x="562680" y="5484960"/>
            <a:ext cx="73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Make sure the same method is used for each fiscal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20:36:31Z</dcterms:created>
  <dc:creator>Mary Colleen McLaughlin</dc:creator>
  <dc:description/>
  <dc:language>en-US</dc:language>
  <cp:lastModifiedBy>David Combs</cp:lastModifiedBy>
  <dcterms:modified xsi:type="dcterms:W3CDTF">2011-10-30T20:56:10Z</dcterms:modified>
  <cp:revision>66</cp:revision>
  <dc:subject/>
  <dc:title>ADJUSTING ENTRY FOR SUPPLIES</dc:title>
</cp:coreProperties>
</file>